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DCC-4957-4ADF-86CF-7567AD23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3CF-D1AC-4953-9AAC-5B19C4E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819-D7FD-494C-9AC6-F40617F9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0EF-534E-4BE4-A8CC-0F8DCB83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C34-6C9E-476F-836E-06DBD901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0E4-FE35-4730-9DE1-F3A8AF7A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C97-F9FF-4D8E-B5B5-72657AA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D9E-7663-4B42-9E83-C1875AD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B3F-C5B2-4377-9F91-810912A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928-7122-4AFD-BAC9-7276577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F56-3710-4B06-87ED-DB50B8D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0CB-0530-4807-939F-8345904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717-D635-4D9E-9013-9B742AC3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odus 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er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4419720"/>
            <a:ext cx="657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me Evidence Is Better Than Non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12680"/>
            <a:ext cx="754056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568680" cy="268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114800" y="380880"/>
            <a:ext cx="4714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lace Where 2-3 Mill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ld Be "Shut In"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.14: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609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Exodus Route And Mount Sinai Ever Been A Settled Issue In The Last 1800 Yea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Know About Other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6629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ptics Use This Uncertainty To Create Doubts About The Entir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More Investigation Has Always Brought About Better Evidences FOR The Bible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Sometimes A Wrong Assumption Can Lead Us To Look In The Wrong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Popular Beliefs Are Not Always Best With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y were “out of Egyp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, they went through “the wilderness of the Red Se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, They Were Trapped By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, God Opened The Sea And Allowed The Israelites To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, The Egyptian Armies Were Destroyed I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raelites Had Been “Baptized Unto Mo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elebrate Their Salvation – Ex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e to Marah – Bitter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plain of Hunger &amp; God Feeds Them Manna and Qu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attle The Amalek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hro  Visits M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’s Awesome Presence On The 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O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Ra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9360" y="647640"/>
            <a:ext cx="4780080" cy="598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295280" y="0"/>
            <a:ext cx="6934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odus Route Controvers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44492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019920" y="2209680"/>
            <a:ext cx="257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bal Musa 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bal Al Lawz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9920" y="4038480"/>
            <a:ext cx="2485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tra-bibl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id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64240" cy="471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0" y="22860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dian Has The Mount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743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Mt. Sinai is not certain. No scholars say it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6002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hopeless to think that we can be exact about the route of the Exodus……The exact point at which they crossed the Red Sea is unknown.  -Bob Waldron, p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9320" y="5562720"/>
            <a:ext cx="62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abia Has The Mountain- Gal.4:2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553080" y="304920"/>
            <a:ext cx="98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.3: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886200" cy="29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581280" y="685800"/>
            <a:ext cx="160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uweib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19520" y="4572000"/>
            <a:ext cx="31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 Accomod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3 Mill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52880" cy="326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39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867280" y="4419720"/>
            <a:ext cx="2657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latians 4:2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657600"/>
            <a:ext cx="33526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odus 3 Do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 Indicate T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ses Left Midi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A Mountai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other Terri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81560" cy="2884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8600" y="3429000"/>
            <a:ext cx="4552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ere "out of Egypt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fore They Cross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Red Sea - Ex.14:11,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05520" y="762120"/>
            <a:ext cx="275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uez is no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out of Egypt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38680" y="3886200"/>
            <a:ext cx="3152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ulf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qaba is throug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ildernes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out of 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8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38280" y="4724280"/>
            <a:ext cx="4353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 Mainland Egypt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Place of Egypti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posts And Influ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183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500200"/>
            <a:ext cx="3124080" cy="290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71500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05520" y="152280"/>
            <a:ext cx="3581280" cy="238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00600" y="571500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aching S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y Are Chariot Wheels In The S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1:02:17Z</dcterms:created>
  <dc:creator>Terry Benton</dc:creator>
  <dc:description/>
  <dc:language>en-US</dc:language>
  <cp:lastModifiedBy>Frank D Vines</cp:lastModifiedBy>
  <dcterms:modified xsi:type="dcterms:W3CDTF">2008-04-26T15:42:07Z</dcterms:modified>
  <cp:revision>10</cp:revision>
  <dc:subject/>
  <dc:title>The Exodus Route</dc:title>
</cp:coreProperties>
</file>